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6322-98DD-4390-A6AE-71611DD0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6DBF-078B-48F6-B657-AE508098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8F8DA-C0B5-443A-A518-4AF9C0B0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5729D-F438-4385-B646-89599246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D1D0D-C797-48FC-B2A4-49E4FD0D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C7E9E-66E0-428D-AB78-F652823B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DC0CA-C474-4974-A63E-AE1F3BC3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538E4-E4AF-400D-81CD-074B18F3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D0209-4128-4497-8A6A-DB13395E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A6020-D809-4D52-921D-AC4AD7B0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A4EE9-ED59-4B4E-91E7-BFCFFE2D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229C2-95FE-462E-A665-5D559699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E157-EF31-440C-9449-62323C89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616B2-3F25-419E-AC6D-C6CA1F11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8F258-D08A-45CC-9DC5-23A01EE2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8F888-75D9-44DF-AF3D-7CC20E2A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AB954-CA49-4F03-9F0F-A3D5A4A8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D3B72-6D47-4579-B701-145A5B6F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DB4AA-A0DF-4427-802C-BF8DC975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18E97-8CE7-4BE0-A9F6-A0A594A6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AD721-A332-454A-A141-0B27B275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F23E5-863F-40AE-86DA-3C85FEF3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2657E-884C-4253-9370-C6D3E36D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4674-C8AD-4400-A88F-EFFE6CE6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70921-1CC2-4A57-9C07-8C550FE0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7EF52-9894-41C9-A874-E746C0F3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4E068-FEA0-487D-8CDE-6D79FC2F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D6855-87C9-4B2C-8F20-3E9B5E4C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C45CA-5E14-46D2-8B2A-AACD37AE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58E6F-E35A-4EB3-84C0-E2E1E39E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1F38A-18D6-4145-AB91-2EAEB8B0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FE347-202A-4C89-8876-9872BFE7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DBDB3-ABDD-4083-81D7-BD26E20E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2F485-27F7-4828-AAE1-9CDA1F77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2866-21C9-4061-8C62-A560DB94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D311B-8AF5-4B5E-A916-FFFCCA15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3FA93-3BFA-43B7-8B9A-749E297A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A0EB9-42BD-457E-AB07-60EFD03E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56F28-0496-41E9-A0DC-E3E50919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FF1B2-6F20-45B9-8818-A51C8210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F878D-856A-4593-AB69-BDA40EF1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769F0-40FB-4135-81B5-A2B0C89C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C117D-744C-4D3A-90DC-5015511C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9515D-7257-4D54-B50B-7197F1E2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E27B4-A94A-4220-8004-D5854EA9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79FE-8CAE-48B0-9F68-040B7484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178CE-46C6-4583-8DA8-B0AE9361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61486-9269-4BB1-9A34-F1FDFC73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F28AC-60DB-4B9D-B174-82D19F1B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E8119-99E1-43E4-937E-8CF0BBA9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3CE14-69F6-405E-9C36-AFCE2978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6330-EFC6-4C6A-9526-FCCFD5B3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5C23-46A7-49D7-A65C-F86E7470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890A-E998-4E5B-9090-F3F57AD4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7B95-B974-49E6-BEEF-41511A7A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E191-702D-4187-AD17-7A37DAC0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E2B8-EB33-45C3-86D5-C97C4CBD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E087-B69E-4D7F-8ED1-228F3F0C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3915-3715-4A7F-AE25-20719821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3575-8F77-45D9-9794-4216C844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02A3-E019-4562-9417-0647EAFC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937D-3666-4959-AC20-EC74A598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51F62-AD11-4FA2-A867-085CEC57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EFA75-9759-4BFE-87A0-F0DAA205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4470E-7137-40EF-A046-04E1084E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9BEF7-6336-4AD5-91C7-EA893C18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73E4B-B315-4FCE-BED3-61763B30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922F-3001-4E11-8BB4-2436F600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37DF2-4FBE-426D-9447-591D1686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D4338-15A6-4C2F-B6A2-8659829A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9D40E-E026-4939-BEA6-794BC92F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B3789-E65A-4ED0-B6B2-5ECAD56F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241AF-A138-401D-BEEE-6C5FECDE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9DDC0-8EBD-4161-A571-F8A03278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1B553-BEE9-4243-BEF3-B36DD0C1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581DD-66E9-4E39-8961-CF727568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A49F4-04F6-41F0-A594-D5B9F82C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C22CA-CD62-46F2-9F62-683CD3E5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613C-84A4-4487-A4AB-E29C0F52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295B4-7C8C-4718-9CEF-1B9A1573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BE550-99E6-4917-A48E-9BC36484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0A504-B2FF-439D-BF5C-A62D0ED9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80F78-169E-4D67-9895-FBA5965A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F97D0-28FA-4BAC-8911-8E5CA27A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FD28F-906A-4A7F-9F43-DE196951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8A528-3ACA-457A-B117-C14CAA59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CB235-51B0-4869-9E3F-00584924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F3DFB-5879-4E31-B13B-B60C7B3E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495AF-CBA3-4AE7-A278-CB6DBA26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9C16-0D38-4EFE-9D3D-4DAA57AA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FB273-1128-4DD3-9B88-6888F19F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A13C7-1300-42E4-8105-81409D1E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3CA46-1627-42F0-BF27-D83379B3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2809C-8666-47F5-B3D5-6AAA79FE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D23C0-3683-482D-B7D6-AE53317E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CBCB8-B6BD-46FF-AF6B-C28EBC58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7E4E7-92EC-4360-8040-9125101E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B7029-7DDD-4A20-B0A7-34C14F5F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76DC2-BC1F-49C1-B461-045CA54A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9D921-1EA7-45DA-BF76-9458E38C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A3D4-6737-47E8-8F73-E493F622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7FBB4-E74F-456E-9B01-AFFEB62A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899C5-F43A-4B17-9D55-03E0475E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D060C-F559-4012-8840-6A9C265E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76F8C-EE78-4473-B573-C32A7FCC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9FF1E-3006-490D-90A5-DF511DCD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02DF6-F521-4BE8-9947-DA93D081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D530B-1234-4829-B2B5-199F2DA4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9618B-C340-409F-9BF3-F9B62E70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73785-0F9F-46DC-A655-6094064F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A4AC7-4993-4D54-8C01-BC20CDFE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2D99-75CC-4F7F-8645-A39C73C4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D6781-A12B-441E-8EFB-966AF924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A1C49-7169-4C3B-BA74-CBB10488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4D901-D301-4B46-8323-41B1CED2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C3822-7E62-48A0-92DE-60B2AE5F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0154A-878C-4AD2-9616-024A3F71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D6594-A919-4893-992D-4611587B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14689-153C-4D92-BE7F-F08801E9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BD0F9-75F9-40E5-825F-AB9B3E06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2E33F-1F6A-475B-AB1D-C82DC6A6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86641-1546-4BCA-9ECB-3FAA5379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BB40-2089-4F32-9896-10B9BEF9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A957B-32CB-4086-BCFC-E5489639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A0A29-36CE-4F17-B669-C9B8B921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7DE77-843E-4831-BEB9-9B07C8B6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A2046-6928-4F67-BC2B-310082D9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82B0B-F51C-4D23-AC99-43925DB8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C1281-E81B-4DCE-B976-4C4FBF3D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037C6-08E4-43A2-9818-132989D9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31EAA-815B-485B-8D99-FD22FDB1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2D22B-9028-486C-938A-D4944DE5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97D0E-0FD5-4FE7-904E-DEB16286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DB45-2A5E-4821-82FB-5EC5430F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B38F4-7D2B-40E8-B6C9-9EAC720F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0405D-2511-4C7A-93D4-0F6EB078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2F0EF-FD66-4541-8D4D-7E8E23AB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B5B25-A106-41EA-B01A-9C60CB98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B732C-6999-4FFB-AB5F-9F8773C2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C4CF6-FEBE-4A99-A112-A3362BB6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FD34D-9D5D-4CDD-A61B-D705FDF4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14643-AFBA-4F01-A125-AF4A87D9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A1E1B-0B53-4DE0-9FCB-95536A71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39387-C41A-483B-830A-5BE5F3DD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408A-F623-4FAD-924E-C689D3CAE4C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AC0E-792A-4C07-9B7B-754A2267B6D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3B16-064E-4ADD-B33D-565F6628975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C11D-3ABB-44A7-9074-D1BED4B75FF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3B54-7A49-4BA7-8CC8-0E8BAC27195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7141-7F6D-4067-9DAA-03434AF642E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F647-18EE-4AAD-AD4B-22062BF9B57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76CA-7702-4A90-9DB3-FF86D2B5997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EB7D-2E4A-45DA-80C6-B405D5557E0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53C9-C2D1-4635-B225-C6FB123C91B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BF11-3892-497A-94EF-6BD4C577D71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9F3F-9B9C-45F5-AEA7-28E1591871C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12 Spasiteľ môj, prosbu m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 môj, prosbu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tebe len sa utiek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iedny som a strápe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teba som strate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búrke žitia veď ma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teba sa spolieh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íchry často bývaj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oďkou mojou zmietajú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lny zúriť prestan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tvoj rozkaz dostan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áchranu len v tebe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 môj, veď ma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keď breh už blízko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ozivé je úskal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keď tebou viesť sa d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prístavu dopláv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hlas tvo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počuť smiem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boj sa, ja viesť ťa chce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4:33:18Z</dcterms:modified>
  <cp:revision>22</cp:revision>
  <dc:subject/>
  <dc:title>Je veľký náš Pán, on slávy je Kráľ Nech do všetkých strán  spev vrúcnych znie chvál.</dc:title>
</cp:coreProperties>
</file>